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ct" ContentType="image/x-pict"/>
  <Override PartName="/ppt/media/image6.png" ContentType="image/png"/>
  <Override PartName="/ppt/media/image11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2783" dir="10216345" blurRad="0" rotWithShape="0">
              <a:srgbClr val="808080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4210C-4E97-42CE-BF69-CC249B5EE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 to you own photo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023D-6937-470D-BF1F-A57B16E7F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5C3E-D8B9-4661-B484-C34111CBD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5DA-1918-4403-B8D7-89C5B8736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B2E5-55BA-4C82-95E7-D0564ACF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BA46-59CB-4522-AB02-F5299AED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FDB70-BCDC-4B92-887F-115EF5FF3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40B6-C7B9-4498-AA00-FC92560B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47E2-B523-478C-98F0-26A3B8784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7219A-EDBF-4F39-A392-D5A6A5CFB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A0F4-63B6-42CD-BF6D-24CD12B64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9E088-D1B7-4293-98EB-04D097A4D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3E1D-18F1-44B5-946B-2F15E647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3C33-6E35-403F-81AB-9BA0F769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0EAA-22F0-40F2-B04E-23CABCD6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9BF92-E83D-4726-9A0C-17ABED7B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E7D1-242C-46E3-8F51-1DC402998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41421-81BB-41CE-8A00-026919EE6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19B5-8B13-4690-8CB4-477D48EF4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3B14-8B0B-43CD-B466-A84A019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8BEF-EEEF-4CA8-93CD-5C7A8FC4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8801-1550-4E62-972E-ECA1B98B0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07A3-0A2F-42D5-9549-21A261CA0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2B59-E051-4D26-9928-98CA8FD94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471D-F783-4FEA-AB13-5E2FDC9A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FD21-73B1-4F7F-8C44-B37DE4EBA8A5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55320" y="1371240"/>
            <a:ext cx="6629400" cy="20574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090D2-C786-4CD4-A88A-2158E76A8B41}" type="slidenum">
              <a:rPr b="0" lang="en-US" sz="1400" spc="-1" strike="noStrike">
                <a:solidFill>
                  <a:srgbClr val="ffffff"/>
                </a:solidFill>
                <a:latin typeface="Trebuchet MS"/>
                <a:ea typeface="ヒラギノ角ゴ Pro W3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.pct"/><Relationship Id="rId4" Type="http://schemas.openxmlformats.org/officeDocument/2006/relationships/package" Target="../embeddings/oleObject2.docx"/><Relationship Id="rId5" Type="http://schemas.openxmlformats.org/officeDocument/2006/relationships/image" Target="../media/image3.pct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19051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31f20"/>
                </a:solidFill>
                <a:latin typeface="Trebuchet MS"/>
              </a:rPr>
              <a:t>The Me and My School survey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51920" y="1828440"/>
            <a:ext cx="8991720" cy="396252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first and largest section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is entitled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Me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and My School and is concerned   with a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global measure of student engagement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. Student engagement refers to the level of connection and commitment students have to school and learning: uses behavioural, affective and cognitive aspects: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Behavioural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refers to participation in school and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Affective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is concerned with students’ emotional respons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</a:t>
            </a:r>
            <a:r>
              <a:rPr b="1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Cognitive engagement</a:t>
            </a:r>
            <a:r>
              <a:rPr b="0" lang="en-US" sz="1800" spc="-1" strike="noStrike">
                <a:solidFill>
                  <a:srgbClr val="3f3d3d"/>
                </a:solidFill>
                <a:latin typeface="Trebuchet MS"/>
                <a:ea typeface="ヒラギノ角ゴ Pro W3"/>
              </a:rPr>
              <a:t> refers to students’ commitment to, and involvement in learning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second section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,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Re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ading and Me provides a snapshot of students’ engagement in reading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499"/>
              </a:spcBef>
              <a:buClr>
                <a:srgbClr val="3f3d3d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The </a:t>
            </a:r>
            <a:r>
              <a:rPr b="0" lang="en-US" sz="2000" spc="-1" strike="noStrike" u="sng">
                <a:solidFill>
                  <a:srgbClr val="3f3d3d"/>
                </a:solidFill>
                <a:uFillTx/>
                <a:latin typeface="Trebuchet MS"/>
              </a:rPr>
              <a:t>last section,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Mo</a:t>
            </a:r>
            <a:r>
              <a:rPr b="0" lang="en-US" sz="2000" spc="-1" strike="noStrike">
                <a:solidFill>
                  <a:srgbClr val="3f3d3d"/>
                </a:solidFill>
                <a:latin typeface="Trebuchet MS"/>
              </a:rPr>
              <a:t>re about Me is concerned with a range of environmental variables that may affect students’ reported engagement levels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1905120"/>
            <a:ext cx="9144000" cy="49528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66680" y="228600"/>
            <a:ext cx="7315200" cy="1054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1530360"/>
            <a:ext cx="914400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990720" y="228600"/>
            <a:ext cx="7315200" cy="10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PROFIL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e Used a sample -  65 students randomly selected across the spectrum of year 9 and 10 classes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ollowing numbers of students from our school were involved in the survey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irls: 2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ys: 31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9: 30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ar 10: 29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Z European: 38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ori: 7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ific: 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ian: 4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: 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783" dir="10216345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he measur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066680" y="1143000"/>
          <a:ext cx="7086600" cy="13208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66680" y="1143000"/>
                    <a:ext cx="7086600" cy="1320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2783" dir="10216345" blurRad="0" rotWithShape="0">
                      <a:srgbClr val="ffffff">
                        <a:alpha val="75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447920" y="23623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2971800"/>
          <a:ext cx="6858000" cy="1185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19320" y="2971800"/>
                    <a:ext cx="685800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400800" y="152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X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1523880" y="0"/>
            <a:ext cx="6324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4300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228600" y="1600200"/>
            <a:ext cx="8686800" cy="4572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943600" y="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% 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617220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NDING TIME OUT OF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762120" y="304920"/>
            <a:ext cx="7264440" cy="1092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1T23:09:51Z</dcterms:created>
  <dc:creator>John Pipe</dc:creator>
  <dc:description/>
  <dc:language>en-US</dc:language>
  <cp:lastModifiedBy>John Pipe</cp:lastModifiedBy>
  <dcterms:modified xsi:type="dcterms:W3CDTF">2009-11-11T06:03:24Z</dcterms:modified>
  <cp:revision>2</cp:revision>
  <dc:subject/>
  <dc:title>The Me and My School survey</dc:title>
</cp:coreProperties>
</file>